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omp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bear.wav" ContentType="audio/x-wav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C46A-938A-4213-AD1C-C7E127E95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DE2A-0D9F-44D9-BE70-B1F5051B9A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5636-52C2-4671-97A9-2C9D94944D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ould re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5E1A-98BE-4B76-904F-81DBC44559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1B4C-EFD7-446E-B606-CFB867E410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D035-75AA-48FC-AE68-9997FA0FB8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A6CA-FEF4-4355-837C-F1CAA3422E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8BBF-C216-4DA6-A77C-EC291AFD9B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8AF9-DB54-4A89-A921-B9387A7901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r sound from http://www.brandens.net/snd_list.php?cat=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7D19-E67D-4607-AE30-E887300874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FEF-F813-4C46-AF04-786901DE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431-6FE5-4482-B139-6AD05597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D9B-19A3-43BB-80FB-739CB0BA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8C83-3E05-4D8E-B045-ECD3D164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908-4C5E-4184-A92A-8103A9B5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4EA-033E-485A-9D7D-DDDEA947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9AF-8831-4FFB-8317-9EEB6730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D34-C249-493D-AEFB-57156BDF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AFF5-530A-4840-98AC-0088DA6C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B31F-4DDE-4C1A-9BDE-FF872686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558-F4F4-4AA0-95A3-07F919C3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5127-3D06-4D54-85B4-348E7982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22F1-D515-49BF-947D-A88B0C7608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bear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0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were starving but decided to make the long drive home because the choices at the food court would have poisoned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were starving but decided to make the long drive home because the choices at the food court would have poisone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were starving but decided to make the long drive home because the choices at the food court would have poisone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380880" y="1523880"/>
            <a:ext cx="83059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Today you can buy fried chicken in minutes at a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fast food drive-thru. But in the 1800s, you had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to slaughter, pluck, and cook the bird herself to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serve chicken for dinn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a wom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ourselv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380880" y="1523880"/>
            <a:ext cx="83059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Today </a:t>
            </a:r>
            <a:r>
              <a:rPr b="1" lang="en-US" sz="27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can buy fried chicken in minutes at a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7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fast food drive-thru. But in the 1800s, </a:t>
            </a:r>
            <a:r>
              <a:rPr b="1" lang="en-US" sz="27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had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</a:t>
            </a:r>
            <a:r>
              <a:rPr b="1" lang="en-US" sz="27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to slaughter, pluck, and cook the bird </a:t>
            </a:r>
            <a:r>
              <a:rPr b="1" lang="en-US" sz="27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erself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to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</a:t>
            </a:r>
            <a:r>
              <a:rPr b="1" lang="en-US" sz="27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serve chicken for dinn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a wom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ourselv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380880" y="1523880"/>
            <a:ext cx="83059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Today </a:t>
            </a:r>
            <a:r>
              <a:rPr b="1" lang="en-US" sz="27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can buy fried chicken in minutes at a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7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fast food drive-thru. But in the 1800s, </a:t>
            </a:r>
            <a:r>
              <a:rPr b="1" lang="en-US" sz="27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 woma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had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</a:t>
            </a:r>
            <a:r>
              <a:rPr b="1" lang="en-US" sz="27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to slaughter, pluck, and cook the bird </a:t>
            </a:r>
            <a:r>
              <a:rPr b="1" lang="en-US" sz="27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erself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to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</a:t>
            </a:r>
            <a:r>
              <a:rPr b="1" lang="en-US" sz="27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serve chicken for dinn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  <a:ea typeface="Arial"/>
              </a:rPr>
              <a:t>a wom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ourselv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533520" y="1752480"/>
            <a:ext cx="80769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a student has disappointed a professor, you can always try smiling in class or offering a compliment to get back on the teacher’s good 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udents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533520" y="1752480"/>
            <a:ext cx="8076960" cy="4419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student 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appointed a professor, you can always try smiling in class or offering a compliment to get back on the teacher’s good 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udents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533520" y="1752480"/>
            <a:ext cx="8076960" cy="4419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student 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appointed a professor, you can always try smiling in class or offering a compliment to get back on the teacher’s good 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udents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you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hletes need to stay hydrated. They can choo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in water from a fountain, but you might prefer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nk that adds electrolytes so that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formance is opti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hletes need to stay hydrated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choo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in water from a fountain, bu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prefer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nk that adds electrolytes so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formance is opti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hletes need to stay hydrated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choo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in water from a fountain, bu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prefer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nk that adds electrolytes so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formance is opti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533520" y="1828800"/>
            <a:ext cx="80769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itz refuses to buy books until after the semester has begun. The texts professors require on the syllabus are often not necessary for your success in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533520" y="1828800"/>
            <a:ext cx="8076960" cy="4419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itz refuses to buy books until after the semester has begun. The texts professors require on the syllabus are often not necessary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uccess in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533520" y="1828800"/>
            <a:ext cx="8076960" cy="4419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itz refuses to buy books until after the semester has begun. The texts professors require on the syllabus are often not necessary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uccess in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refuse to drive on the interstate at rush hour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o many drivers are whipping in and out of lan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eless about how their behavior affects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should 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 refu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drive on the interstate at rush hour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o many drivers are whipping in and out of lan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eless about how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ehavior affect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should 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 refu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drive on the interstate at rush hour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o many drivers are whipping in and out of lan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eless about how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ehavior affect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should 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you are daring, try this bacon-maple ice cream sundae that I made. The combination of salty and sweet might appeal to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you are daring, try this bacon-maple ice cream sundae that I made. The combination of salty and sweet might appeal t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you are daring, try this bacon-maple ice cream sundae that I made. The combination of salty and sweet might appeal t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 can fix your money problems with a litt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ancial discipline. You must pay yourself firs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tting a few dollars into savings before tackl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y of the other b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fix your money problems with a litt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ancial discipline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ust pa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rsel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irs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tting a few dollars into savings before tackl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y of the other b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fix your money problems with a litt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ancial discipline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ust pa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rsel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irs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tting a few dollars into savings before tackl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y of the other b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lcolm and Dwayne are in competition for Yolanda’s love. Buying flowers would win you a woman’s aff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lcolm and Dwayne are in competition for Yolanda’s love. Buying flowers would w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woman’s aff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lcolm and Dwayne are in competition for Yolanda’s love. Buying flowers would w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woman’s aff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fessional race car drivers listen closely to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gines. You can anticipate performanc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ariations based on sounds a regular driver wou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fessional race car drivers listen closely t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gine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anticipate performanc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ariations based on sound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regular dri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u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fessional race car drivers listen closely t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gines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anticipate performanc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ariations based on sound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regular dri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u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lookout.jpg"/>
          <p:cNvPicPr/>
          <p:nvPr/>
        </p:nvPicPr>
        <p:blipFill>
          <a:blip r:embed="rId1"/>
          <a:stretch/>
        </p:blipFill>
        <p:spPr>
          <a:xfrm>
            <a:off x="2743200" y="1971720"/>
            <a:ext cx="3048120" cy="4757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ronoun Shif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ounded Rectangular Callout 7"/>
          <p:cNvSpPr/>
          <p:nvPr/>
        </p:nvSpPr>
        <p:spPr>
          <a:xfrm>
            <a:off x="457200" y="2666880"/>
            <a:ext cx="2133720" cy="1524240"/>
          </a:xfrm>
          <a:prstGeom prst="wedgeRoundRectCallout">
            <a:avLst>
              <a:gd name="adj1" fmla="val 138888"/>
              <a:gd name="adj2" fmla="val -3756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I mea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read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ounded Rectangular Callout 8"/>
          <p:cNvSpPr/>
          <p:nvPr/>
        </p:nvSpPr>
        <p:spPr>
          <a:xfrm>
            <a:off x="6248520" y="3048120"/>
            <a:ext cx="2666880" cy="1904760"/>
          </a:xfrm>
          <a:prstGeom prst="wedgeRoundRectCallout">
            <a:avLst>
              <a:gd name="adj1" fmla="val -96912"/>
              <a:gd name="adj2" fmla="val -5211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am I talking about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omeone el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9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3"/>
          <p:cNvSpPr/>
          <p:nvPr/>
        </p:nvSpPr>
        <p:spPr>
          <a:xfrm>
            <a:off x="2286000" y="2895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bookgirl.jpg"/>
          <p:cNvPicPr/>
          <p:nvPr/>
        </p:nvPicPr>
        <p:blipFill>
          <a:blip r:embed="rId1"/>
          <a:stretch/>
        </p:blipFill>
        <p:spPr>
          <a:xfrm>
            <a:off x="4267080" y="533520"/>
            <a:ext cx="2971800" cy="6135480"/>
          </a:xfrm>
          <a:prstGeom prst="rect">
            <a:avLst/>
          </a:prstGeom>
          <a:ln w="0">
            <a:noFill/>
          </a:ln>
        </p:spPr>
      </p:pic>
      <p:sp>
        <p:nvSpPr>
          <p:cNvPr id="95" name="Rounded Rectangular Callout 2"/>
          <p:cNvSpPr/>
          <p:nvPr/>
        </p:nvSpPr>
        <p:spPr>
          <a:xfrm>
            <a:off x="914400" y="1905120"/>
            <a:ext cx="2514600" cy="3962160"/>
          </a:xfrm>
          <a:prstGeom prst="wedgeRoundRectCallout">
            <a:avLst>
              <a:gd name="adj1" fmla="val 139314"/>
              <a:gd name="adj2" fmla="val -5905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maintaining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onsistenc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pronou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oint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-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of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-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523880"/>
            <a:ext cx="716256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pronoun shift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50640"/>
            <a:ext cx="7925040" cy="1020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ordered with care at the expens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taurant because you don’t want the sha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not having enough money to pay our bi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 should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did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 b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685800" y="160020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e orde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care at the expens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taurant becaus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 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ant the sha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not having enough money to pa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i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 should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did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685800" y="160020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e orde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care at the expens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taurant becaus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we did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ant the sha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not having enough money to pa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i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 should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e did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7" descr="lookup.jpg"/>
          <p:cNvPicPr/>
          <p:nvPr/>
        </p:nvPicPr>
        <p:blipFill>
          <a:blip r:embed="rId1"/>
          <a:stretch/>
        </p:blipFill>
        <p:spPr>
          <a:xfrm>
            <a:off x="5181480" y="3962520"/>
            <a:ext cx="997200" cy="2819160"/>
          </a:xfrm>
          <a:prstGeom prst="rect">
            <a:avLst/>
          </a:prstGeom>
          <a:ln w="0">
            <a:noFill/>
          </a:ln>
        </p:spPr>
      </p:pic>
      <p:sp>
        <p:nvSpPr>
          <p:cNvPr id="102" name="Rounded Rectangular Callout 18"/>
          <p:cNvSpPr/>
          <p:nvPr/>
        </p:nvSpPr>
        <p:spPr>
          <a:xfrm>
            <a:off x="6781680" y="4419720"/>
            <a:ext cx="2210040" cy="1676160"/>
          </a:xfrm>
          <a:prstGeom prst="wedgeRoundRectCallout">
            <a:avLst>
              <a:gd name="adj1" fmla="val -98671"/>
              <a:gd name="adj2" fmla="val -4229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we orde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you don’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ou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robl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ounded Rectangular Callout 19"/>
          <p:cNvSpPr/>
          <p:nvPr/>
        </p:nvSpPr>
        <p:spPr>
          <a:xfrm>
            <a:off x="6781680" y="4419720"/>
            <a:ext cx="2210040" cy="1676160"/>
          </a:xfrm>
          <a:prstGeom prst="wedgeRoundRectCallout">
            <a:avLst>
              <a:gd name="adj1" fmla="val -97296"/>
              <a:gd name="adj2" fmla="val -4138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You don’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a shift in person, which opt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rr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7" descr="mountainclimbing.jpg"/>
          <p:cNvPicPr/>
          <p:nvPr/>
        </p:nvPicPr>
        <p:blipFill>
          <a:blip r:embed="rId1"/>
          <a:stretch/>
        </p:blipFill>
        <p:spPr>
          <a:xfrm>
            <a:off x="548640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awna refuses to try mountain climbing because  you  can get stuck in a blizzard and freeze to death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1371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Don’t </a:t>
            </a:r>
            <a:r>
              <a:rPr b="0" i="1" lang="en-US" sz="3600" spc="-1" strike="noStrike">
                <a:solidFill>
                  <a:srgbClr val="ffc000"/>
                </a:solidFill>
                <a:latin typeface="Arial Black"/>
              </a:rPr>
              <a:t>Mix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Pronoun Persons.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16" descr="think.jpg"/>
          <p:cNvPicPr/>
          <p:nvPr/>
        </p:nvPicPr>
        <p:blipFill>
          <a:blip r:embed="rId2"/>
          <a:stretch/>
        </p:blipFill>
        <p:spPr>
          <a:xfrm>
            <a:off x="3549600" y="3733920"/>
            <a:ext cx="1824120" cy="3124080"/>
          </a:xfrm>
          <a:prstGeom prst="rect">
            <a:avLst/>
          </a:prstGeom>
          <a:ln w="0">
            <a:noFill/>
          </a:ln>
        </p:spPr>
      </p:pic>
      <p:sp>
        <p:nvSpPr>
          <p:cNvPr id="108" name="Rounded Rectangular Callout 9"/>
          <p:cNvSpPr/>
          <p:nvPr/>
        </p:nvSpPr>
        <p:spPr>
          <a:xfrm>
            <a:off x="152280" y="4419720"/>
            <a:ext cx="2895840" cy="2133360"/>
          </a:xfrm>
          <a:prstGeom prst="wedgeRoundRectCallout">
            <a:avLst>
              <a:gd name="adj1" fmla="val 83032"/>
              <a:gd name="adj2" fmla="val -4921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re the one who froze, I’d b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ok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mountain climbi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ounded Rectangular Callout 19"/>
          <p:cNvSpPr/>
          <p:nvPr/>
        </p:nvSpPr>
        <p:spPr>
          <a:xfrm>
            <a:off x="4724280" y="3809880"/>
            <a:ext cx="2362320" cy="838440"/>
          </a:xfrm>
          <a:prstGeom prst="wedgeRoundRectCallout">
            <a:avLst>
              <a:gd name="adj1" fmla="val 75462"/>
              <a:gd name="adj2" fmla="val 1712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Grizzl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0" descr="bear.jpg"/>
          <p:cNvPicPr/>
          <p:nvPr/>
        </p:nvPicPr>
        <p:blipFill>
          <a:blip r:embed="rId3"/>
          <a:srcRect l="0" t="0" r="0" b="29824"/>
          <a:stretch/>
        </p:blipFill>
        <p:spPr>
          <a:xfrm>
            <a:off x="6781680" y="4952880"/>
            <a:ext cx="1581120" cy="19051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2"/>
          <p:cNvSpPr/>
          <p:nvPr/>
        </p:nvSpPr>
        <p:spPr>
          <a:xfrm>
            <a:off x="2286000" y="2362320"/>
            <a:ext cx="914400" cy="457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741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241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401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401"/>
                            </p:stCondLst>
                            <p:childTnLst>
                              <p:par>
                                <p:cTn id="119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901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ronoun Persons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2362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First Pers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, m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ur, ou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urse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0040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Second Pers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r, you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rself, yourse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Content Placeholder 3"/>
          <p:cNvSpPr/>
          <p:nvPr/>
        </p:nvSpPr>
        <p:spPr>
          <a:xfrm>
            <a:off x="6095880" y="1600200"/>
            <a:ext cx="2667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Third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, she,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m,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s, hers, 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mself, herself,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ir, 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standing.jpg"/>
          <p:cNvPicPr/>
          <p:nvPr/>
        </p:nvPicPr>
        <p:blipFill>
          <a:blip r:embed="rId1"/>
          <a:stretch/>
        </p:blipFill>
        <p:spPr>
          <a:xfrm>
            <a:off x="4591080" y="4419720"/>
            <a:ext cx="857160" cy="2438280"/>
          </a:xfrm>
          <a:prstGeom prst="rect">
            <a:avLst/>
          </a:prstGeom>
          <a:ln w="0">
            <a:noFill/>
          </a:ln>
        </p:spPr>
      </p:pic>
      <p:sp>
        <p:nvSpPr>
          <p:cNvPr id="117" name="Rounded Rectangular Callout 6"/>
          <p:cNvSpPr/>
          <p:nvPr/>
        </p:nvSpPr>
        <p:spPr>
          <a:xfrm>
            <a:off x="2209680" y="4724280"/>
            <a:ext cx="1828800" cy="914400"/>
          </a:xfrm>
          <a:prstGeom prst="wedgeRoundRectCallout">
            <a:avLst>
              <a:gd name="adj1" fmla="val 92777"/>
              <a:gd name="adj2" fmla="val -3201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now your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person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5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5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5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15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65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15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65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25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5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5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5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5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25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85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5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25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75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25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85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-person pronouns must refer to the reader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Subtitle 2"/>
          <p:cNvSpPr/>
          <p:nvPr/>
        </p:nvSpPr>
        <p:spPr>
          <a:xfrm>
            <a:off x="1066680" y="1905120"/>
            <a:ext cx="70106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 must study to do well on your test. Preparation is the key to your su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ubtitle 2"/>
          <p:cNvSpPr/>
          <p:nvPr/>
        </p:nvSpPr>
        <p:spPr>
          <a:xfrm>
            <a:off x="990720" y="1905120"/>
            <a:ext cx="7162560" cy="1447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You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st study to do well on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st. Preparation is the key to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greet.jpg"/>
          <p:cNvPicPr/>
          <p:nvPr/>
        </p:nvPicPr>
        <p:blipFill>
          <a:blip r:embed="rId1"/>
          <a:stretch/>
        </p:blipFill>
        <p:spPr>
          <a:xfrm>
            <a:off x="5029200" y="2819520"/>
            <a:ext cx="2662200" cy="3962160"/>
          </a:xfrm>
          <a:prstGeom prst="rect">
            <a:avLst/>
          </a:prstGeom>
          <a:ln w="0">
            <a:noFill/>
          </a:ln>
        </p:spPr>
      </p:pic>
      <p:sp>
        <p:nvSpPr>
          <p:cNvPr id="122" name="Rounded Rectangular Callout 10"/>
          <p:cNvSpPr/>
          <p:nvPr/>
        </p:nvSpPr>
        <p:spPr>
          <a:xfrm>
            <a:off x="1295280" y="4114800"/>
            <a:ext cx="2514600" cy="1981080"/>
          </a:xfrm>
          <a:prstGeom prst="wedgeRoundRectCallout">
            <a:avLst>
              <a:gd name="adj1" fmla="val 136370"/>
              <a:gd name="adj2" fmla="val -5921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this means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read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7" descr="showmegirl.jpg"/>
          <p:cNvPicPr/>
          <p:nvPr/>
        </p:nvPicPr>
        <p:blipFill>
          <a:blip r:embed="rId1"/>
          <a:stretch/>
        </p:blipFill>
        <p:spPr>
          <a:xfrm>
            <a:off x="2743200" y="3678120"/>
            <a:ext cx="1857240" cy="3179880"/>
          </a:xfrm>
          <a:prstGeom prst="rect">
            <a:avLst/>
          </a:prstGeom>
          <a:ln w="0">
            <a:noFill/>
          </a:ln>
        </p:spPr>
      </p:pic>
      <p:sp>
        <p:nvSpPr>
          <p:cNvPr id="126" name="Rounded Rectangular Callout 6"/>
          <p:cNvSpPr/>
          <p:nvPr/>
        </p:nvSpPr>
        <p:spPr>
          <a:xfrm>
            <a:off x="5715000" y="4495680"/>
            <a:ext cx="2133720" cy="1752840"/>
          </a:xfrm>
          <a:prstGeom prst="wedgeRoundRectCallout">
            <a:avLst>
              <a:gd name="adj1" fmla="val -155361"/>
              <a:gd name="adj2" fmla="val -4944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9451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9951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2010 by Robin L. Simmons. All Rights Reserved</dc:description>
  <cp:keywords>pronouns pronoun shift grammar Grammar Bytes! Robin L. Simmons</cp:keywords>
  <dc:language>en-US</dc:language>
  <cp:lastModifiedBy>RSimmons</cp:lastModifiedBy>
  <dcterms:modified xsi:type="dcterms:W3CDTF">2010-01-04T18:34:44Z</dcterms:modified>
  <cp:revision>244</cp:revision>
  <dc:subject/>
  <dc:title>Pronoun Shift</dc:title>
</cp:coreProperties>
</file>